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CHEEPCHP.WAV" ContentType="audio/x-wav"/>
  <Override PartName="/ppt/media/music.wav" ContentType="audio/x-wav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77E6-7577-4342-8054-8FD378A5F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93804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730F-7648-4611-99D0-0D3E3E27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9909-5078-44D0-814D-BB98D1B54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83BC-F876-47B5-9D25-4F0A58790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4BE1-A9FE-418A-BD4E-13447C2A8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8288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5221-BAE2-4C9C-9E3C-288B12CB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C130-212E-44C4-8668-91A73803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4856-E276-4F55-B876-4FF5C33E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3313-32AC-48AA-B7E2-F85A051F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53316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AF4F-18F1-43BD-901B-694365C8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0BA6-0018-42CA-AEFD-E08F0217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8288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C884-ADD9-4A3C-B19D-CC1569D4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7819-7271-4742-AF13-5B07E8C3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D326-BFC2-4EAD-AE58-B7AD459C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93804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ECAC0-51F7-44A5-AC35-9DCD3500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8375-3BA2-41B3-A510-6FBFBACCF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4C68-F9FA-483E-909E-39966B04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4E2D-1C5B-48E6-9F9C-9DBB1074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4C3F-3EAB-4847-926D-7A3C7181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6741-E62B-404C-AF6F-E0B3594E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53316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3BF1-82BE-4D59-88D5-83181883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855C-9085-400A-B211-B9897D43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BCD7-514F-41AA-A09D-C6ACA7D7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0BE5-6F9D-4698-BFAA-612562AB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8288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66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F061-48C4-4F03-A032-D201F9FD84C1}" type="slidenum">
              <a:rPr b="0" lang="ar-SA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66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EDB7-288E-4B02-88DD-5B91AA36BCD6}" type="slidenum">
              <a:rPr b="0" lang="ar-SA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66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66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EEPCHP.WAV"/><Relationship Id="rId3" Type="http://schemas.openxmlformats.org/officeDocument/2006/relationships/audio" Target="../media/music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843280" y="907920"/>
            <a:ext cx="446544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قراءة علمية 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26920" y="3573360"/>
            <a:ext cx="719964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006600">
                      <a:alpha val="70000"/>
                    </a:srgbClr>
                  </a:outerShdw>
                </a:effectLst>
                <a:latin typeface="Hesham AlSharq"/>
              </a:rPr>
              <a:t>الزجاج الملون</a:t>
            </a:r>
            <a:endParaRPr b="1" lang="en-US" sz="5400" spc="1" strike="noStrike">
              <a:ln w="381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006600">
                    <a:alpha val="70000"/>
                  </a:srgbClr>
                </a:outerShdw>
              </a:effectLst>
              <a:latin typeface="Hesham AlSharq"/>
              <a:ea typeface="Hesham AlSharq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us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26920" y="1067760"/>
            <a:ext cx="76327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00"/>
                </a:solidFill>
                <a:latin typeface="Times New Roman"/>
              </a:rPr>
              <a:t>ما الأَشْكالُ الَّتِي أَرَاهَا في الزُّجاجِ الْمُلَّوَنِ في الصُّورَةِ؟</a:t>
            </a:r>
            <a:endParaRPr b="0" lang="en-US" sz="2600" spc="-1" strike="noStrike">
              <a:solidFill>
                <a:srgbClr val="0066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00"/>
                </a:solidFill>
                <a:latin typeface="Times New Roman"/>
              </a:rPr>
              <a:t>ما عَدَدُ الدَّوائِرِ الّتي أَرَاهَا؟ وَما عَدَدُ الْمُسْتَطيلاتِ؟</a:t>
            </a:r>
            <a:endParaRPr b="0" lang="en-US" sz="2600" spc="-1" strike="noStrike">
              <a:solidFill>
                <a:srgbClr val="0066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00"/>
                </a:solidFill>
                <a:latin typeface="Times New Roman"/>
              </a:rPr>
              <a:t>تَتَكَوَّنُ النَّوافِذُ الزُّجاجِيَّةُ الْمُلَوَّنَةُ مِنْ عِدَّةِ قِطَعٍ مِنَ الزُّجاجِ الْمُلَوَّنِ</a:t>
            </a:r>
            <a:r>
              <a:rPr b="1" lang="ar-SA" sz="26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66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00"/>
                </a:solidFill>
                <a:latin typeface="Times New Roman"/>
              </a:rPr>
              <a:t>عِنْدَما تَمُرُّ أَشِعَّةُ الشَّمْسِ مِنْ خِلالِ الزُّجاجِ الْمُلَوَّنِ، فَإِنَّني أرى الضَّوْءَ بأَلْوانٍ مُخْتَلِفَةٍ</a:t>
            </a:r>
            <a:r>
              <a:rPr b="1" lang="ar-SA" sz="26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02560" y="619920"/>
            <a:ext cx="4382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00ff"/>
                </a:solidFill>
                <a:latin typeface="Times New Roman"/>
              </a:rPr>
              <a:t>أُحَدِّدُ الأَشْكالَ.</a:t>
            </a:r>
            <a:endParaRPr b="0" lang="en-US" sz="50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86" name="images" descr=""/>
          <p:cNvPicPr/>
          <p:nvPr/>
        </p:nvPicPr>
        <p:blipFill>
          <a:blip r:embed="rId2"/>
          <a:stretch/>
        </p:blipFill>
        <p:spPr>
          <a:xfrm>
            <a:off x="3635280" y="4005360"/>
            <a:ext cx="4608720" cy="2297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24000" y="4059360"/>
            <a:ext cx="324000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30T11:20:49Z</dcterms:modified>
  <cp:revision>34</cp:revision>
  <dc:subject/>
  <dc:title>PowerPoint Presentation</dc:title>
</cp:coreProperties>
</file>